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38C3-9198-4627-AD51-CDD5C11EF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38D7-B997-4633-8DA5-685EAFDA9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B054-A8C7-4274-85F4-B14BD15A3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4CBC-06FC-4154-9DB9-9E13FCB58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7566-632C-456A-B313-BE3EE8BBE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A764-B2EA-4726-92B9-A0FAE41E8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EE12-FD3E-4434-BAD1-0CAB285C7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C713-4C14-48A6-8222-35723C10C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CC58-4244-4677-B95B-D3FE95422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F550-7193-4239-9B55-A3B824B31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8986-52EA-4142-B89C-1AA7C7898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31E1-B6BF-468B-852B-A654AC075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5564C-B7CE-4149-8026-28A4553D44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700360" y="1916280"/>
            <a:ext cx="3456000" cy="3240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050920" y="692280"/>
            <a:ext cx="4753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a globalizzazion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419640" y="1125360"/>
            <a:ext cx="2233440" cy="1008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IZZ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16596600">
            <a:off x="1134000" y="-800640"/>
            <a:ext cx="1008000" cy="3276720"/>
          </a:xfrm>
          <a:prstGeom prst="downArrow">
            <a:avLst>
              <a:gd name="adj1" fmla="val 50000"/>
              <a:gd name="adj2" fmla="val 81268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glioramen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zzi di traspor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15627600">
            <a:off x="1134360" y="639000"/>
            <a:ext cx="1008000" cy="3276720"/>
          </a:xfrm>
          <a:prstGeom prst="downArrow">
            <a:avLst>
              <a:gd name="adj1" fmla="val 50000"/>
              <a:gd name="adj2" fmla="val 81268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glioramen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zzi di comunic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716360" y="1989000"/>
            <a:ext cx="1079640" cy="136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651640" y="1628640"/>
            <a:ext cx="936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00720" y="2060640"/>
            <a:ext cx="718920" cy="21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3203280" y="4437000"/>
            <a:ext cx="14436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028000" y="3357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076720" y="4221000"/>
            <a:ext cx="1295640" cy="72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duzi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651640" y="3357720"/>
            <a:ext cx="1873080" cy="647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ili di v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ù simil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59640" y="1341360"/>
            <a:ext cx="2233440" cy="719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b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rcolazione di mer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68360" y="3716280"/>
            <a:ext cx="2232360" cy="647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bera circol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pers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720" y="1700280"/>
            <a:ext cx="576000" cy="19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84360" y="5589720"/>
            <a:ext cx="1944720" cy="934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tà multietni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igr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7T09:38:35Z</dcterms:created>
  <dc:creator>studente</dc:creator>
  <dc:description/>
  <dc:language>en-US</dc:language>
  <cp:lastModifiedBy>studente</cp:lastModifiedBy>
  <dcterms:modified xsi:type="dcterms:W3CDTF">2016-11-21T10:31:30Z</dcterms:modified>
  <cp:revision>5</cp:revision>
  <dc:subject/>
  <dc:title>Diapositiva 1</dc:title>
</cp:coreProperties>
</file>